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E3F-9327-46C6-93C2-4D3E1EA3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0F1-6EBD-4C3D-8313-1867B26F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FE9-BAFF-4C96-ACD2-10254A6A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8A4-FB21-4B73-8037-0E7B3B38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D4F-82A4-4EB5-ABDE-5C87FD71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3EC-1673-4248-A187-A0BDD41C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0B1-09C4-4421-8AFC-7D9F8C8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B9F-7F8A-4A06-BA71-11D1F2A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A4E-E3A4-4E13-9B86-9E0CA1D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AE2-1570-4669-80F1-9D549D18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2A7-45F0-4848-AE2A-4037A99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0CD-8CCB-440D-830F-7C57913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FD8-E720-4DA5-B3D6-B74AE3A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791-04D3-4A03-925B-1FFEE71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1E0F-FDD4-42BF-912E-053A4639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amigas! Que tal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res compra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8:19Z</dcterms:modified>
  <cp:revision>103</cp:revision>
  <dc:subject/>
  <dc:title>Profile</dc:title>
</cp:coreProperties>
</file>